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A408F-134D-4A07-A956-F8547940D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BA7EA-F420-419E-B263-192AB78A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DCC47-43E1-4AB9-B85A-2F85AE183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C365B-0F3F-44B8-9783-95CE146CB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E895-2390-41E9-B46E-0934CEECA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8272-2A9A-466F-B3AA-0FEAAE7C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F359-314C-411C-82BD-C7D8A7F0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6347-E1BB-439F-8851-BEEC0553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18CE-58E5-410C-B30F-0388D0D8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CA19-A825-492F-A491-8DEBD685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177A-0F44-4E17-B508-F4EF7DA1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07ECF-BCF4-437A-B383-6D0FE596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5EF3-9F4D-4D6D-94D7-D63F28DD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0FE3-B776-47D7-8F63-27302796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2968-D046-4D0F-B9EB-742C9BDD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369C-9901-408E-ACC0-36705FB34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B21C-47E8-4C06-AFED-7AA435981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317CF-DC34-45D9-903C-8131F619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7126E-028A-45D9-9B36-E20260A9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FA744-6E69-46BF-8B7F-D38883B0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FBA5B-E845-45E9-8D92-125CE19D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40708-1872-4F15-9C71-82ED7BFB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0A5F0-6511-41BE-96C1-64689465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84025-36E5-41D6-95C9-08521EB5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5510-C242-4793-BD27-32A4635CAF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3200-32FB-40B0-AAD7-98EE264349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mutation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mutation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764712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the plaintext up into groups of a fixed size,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a permutation of the integers 1 to d called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each block, permute the letters according to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key is (d,f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let d = 5 and let f be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1287720" y="4127400"/>
            <a:ext cx="1711800" cy="459720"/>
            <a:chOff x="1287720" y="4127400"/>
            <a:chExt cx="1711800" cy="459720"/>
          </a:xfrm>
        </p:grpSpPr>
        <p:sp>
          <p:nvSpPr>
            <p:cNvPr id="116" name=""/>
            <p:cNvSpPr/>
            <p:nvPr/>
          </p:nvSpPr>
          <p:spPr>
            <a:xfrm>
              <a:off x="1287720" y="412740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49600" y="412740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28640" y="4373640"/>
              <a:ext cx="894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287720" y="4660920"/>
            <a:ext cx="1711800" cy="459720"/>
            <a:chOff x="1287720" y="4660920"/>
            <a:chExt cx="1711800" cy="459720"/>
          </a:xfrm>
        </p:grpSpPr>
        <p:sp>
          <p:nvSpPr>
            <p:cNvPr id="120" name=""/>
            <p:cNvSpPr/>
            <p:nvPr/>
          </p:nvSpPr>
          <p:spPr>
            <a:xfrm>
              <a:off x="1287720" y="466092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49600" y="466092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18920" y="4897440"/>
              <a:ext cx="875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297440" y="5194440"/>
            <a:ext cx="1702080" cy="459720"/>
            <a:chOff x="1297440" y="5194440"/>
            <a:chExt cx="1702080" cy="459720"/>
          </a:xfrm>
        </p:grpSpPr>
        <p:sp>
          <p:nvSpPr>
            <p:cNvPr id="124" name=""/>
            <p:cNvSpPr/>
            <p:nvPr/>
          </p:nvSpPr>
          <p:spPr>
            <a:xfrm>
              <a:off x="1297440" y="519444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49600" y="519444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18920" y="5421240"/>
              <a:ext cx="875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287720" y="5727600"/>
            <a:ext cx="1693080" cy="459720"/>
            <a:chOff x="1287720" y="5727600"/>
            <a:chExt cx="1693080" cy="459720"/>
          </a:xfrm>
        </p:grpSpPr>
        <p:sp>
          <p:nvSpPr>
            <p:cNvPr id="128" name=""/>
            <p:cNvSpPr/>
            <p:nvPr/>
          </p:nvSpPr>
          <p:spPr>
            <a:xfrm>
              <a:off x="1287720" y="572760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30880" y="572760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19280" y="5945400"/>
              <a:ext cx="876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287720" y="6261120"/>
            <a:ext cx="1711800" cy="459720"/>
            <a:chOff x="1287720" y="6261120"/>
            <a:chExt cx="1711800" cy="459720"/>
          </a:xfrm>
        </p:grpSpPr>
        <p:sp>
          <p:nvSpPr>
            <p:cNvPr id="132" name=""/>
            <p:cNvSpPr/>
            <p:nvPr/>
          </p:nvSpPr>
          <p:spPr>
            <a:xfrm>
              <a:off x="1287720" y="626112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49600" y="626112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18920" y="6469200"/>
              <a:ext cx="875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865320" y="4421160"/>
            <a:ext cx="42040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 e t t h    e b a l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095720" y="4811760"/>
            <a:ext cx="853920" cy="918360"/>
            <a:chOff x="4095720" y="4811760"/>
            <a:chExt cx="853920" cy="918360"/>
          </a:xfrm>
        </p:grpSpPr>
        <p:sp>
          <p:nvSpPr>
            <p:cNvPr id="137" name=""/>
            <p:cNvSpPr/>
            <p:nvPr/>
          </p:nvSpPr>
          <p:spPr>
            <a:xfrm>
              <a:off x="4095720" y="4811760"/>
              <a:ext cx="57132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83160" y="5270400"/>
              <a:ext cx="3664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429080" y="4773600"/>
            <a:ext cx="856440" cy="956520"/>
            <a:chOff x="4429080" y="4773600"/>
            <a:chExt cx="856440" cy="956520"/>
          </a:xfrm>
        </p:grpSpPr>
        <p:sp>
          <p:nvSpPr>
            <p:cNvPr id="140" name=""/>
            <p:cNvSpPr/>
            <p:nvPr/>
          </p:nvSpPr>
          <p:spPr>
            <a:xfrm>
              <a:off x="4429080" y="4773600"/>
              <a:ext cx="57132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35600" y="527040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935160" y="4773600"/>
            <a:ext cx="807840" cy="956520"/>
            <a:chOff x="3935160" y="4773600"/>
            <a:chExt cx="807840" cy="956520"/>
          </a:xfrm>
        </p:grpSpPr>
        <p:sp>
          <p:nvSpPr>
            <p:cNvPr id="143" name=""/>
            <p:cNvSpPr/>
            <p:nvPr/>
          </p:nvSpPr>
          <p:spPr>
            <a:xfrm>
              <a:off x="3935160" y="5270400"/>
              <a:ext cx="28296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162320" y="4773600"/>
              <a:ext cx="58068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172120" y="4782960"/>
            <a:ext cx="474480" cy="946800"/>
            <a:chOff x="5172120" y="4782960"/>
            <a:chExt cx="474480" cy="946800"/>
          </a:xfrm>
        </p:grpSpPr>
        <p:sp>
          <p:nvSpPr>
            <p:cNvPr id="146" name=""/>
            <p:cNvSpPr/>
            <p:nvPr/>
          </p:nvSpPr>
          <p:spPr>
            <a:xfrm>
              <a:off x="5363640" y="5270040"/>
              <a:ext cx="28296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72120" y="4782960"/>
              <a:ext cx="247320" cy="56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221000" y="4773600"/>
            <a:ext cx="1198440" cy="956520"/>
            <a:chOff x="4221000" y="4773600"/>
            <a:chExt cx="1198440" cy="956520"/>
          </a:xfrm>
        </p:grpSpPr>
        <p:sp>
          <p:nvSpPr>
            <p:cNvPr id="149" name=""/>
            <p:cNvSpPr/>
            <p:nvPr/>
          </p:nvSpPr>
          <p:spPr>
            <a:xfrm>
              <a:off x="4221000" y="5270400"/>
              <a:ext cx="3664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495680" y="4773600"/>
              <a:ext cx="92376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505560" y="4802040"/>
            <a:ext cx="837720" cy="918360"/>
            <a:chOff x="6505560" y="4802040"/>
            <a:chExt cx="837720" cy="918360"/>
          </a:xfrm>
        </p:grpSpPr>
        <p:sp>
          <p:nvSpPr>
            <p:cNvPr id="152" name=""/>
            <p:cNvSpPr/>
            <p:nvPr/>
          </p:nvSpPr>
          <p:spPr>
            <a:xfrm>
              <a:off x="6505560" y="4802040"/>
              <a:ext cx="57132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93360" y="526068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838920" y="4764240"/>
            <a:ext cx="872640" cy="956160"/>
            <a:chOff x="6838920" y="4764240"/>
            <a:chExt cx="872640" cy="956160"/>
          </a:xfrm>
        </p:grpSpPr>
        <p:sp>
          <p:nvSpPr>
            <p:cNvPr id="155" name=""/>
            <p:cNvSpPr/>
            <p:nvPr/>
          </p:nvSpPr>
          <p:spPr>
            <a:xfrm>
              <a:off x="6838920" y="4764240"/>
              <a:ext cx="57132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45080" y="5260680"/>
              <a:ext cx="3664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345720" y="4764240"/>
            <a:ext cx="807120" cy="956160"/>
            <a:chOff x="6345720" y="4764240"/>
            <a:chExt cx="807120" cy="956160"/>
          </a:xfrm>
        </p:grpSpPr>
        <p:sp>
          <p:nvSpPr>
            <p:cNvPr id="158" name=""/>
            <p:cNvSpPr/>
            <p:nvPr/>
          </p:nvSpPr>
          <p:spPr>
            <a:xfrm>
              <a:off x="6345720" y="526068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6572160" y="4764240"/>
              <a:ext cx="580680" cy="58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7581960" y="4773600"/>
            <a:ext cx="457560" cy="946800"/>
            <a:chOff x="7581960" y="4773600"/>
            <a:chExt cx="457560" cy="946800"/>
          </a:xfrm>
        </p:grpSpPr>
        <p:sp>
          <p:nvSpPr>
            <p:cNvPr id="161" name=""/>
            <p:cNvSpPr/>
            <p:nvPr/>
          </p:nvSpPr>
          <p:spPr>
            <a:xfrm>
              <a:off x="7773480" y="5260680"/>
              <a:ext cx="26604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581960" y="4773600"/>
              <a:ext cx="247680" cy="56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630120" y="4764240"/>
            <a:ext cx="1199160" cy="956160"/>
            <a:chOff x="6630120" y="4764240"/>
            <a:chExt cx="1199160" cy="956160"/>
          </a:xfrm>
        </p:grpSpPr>
        <p:sp>
          <p:nvSpPr>
            <p:cNvPr id="164" name=""/>
            <p:cNvSpPr/>
            <p:nvPr/>
          </p:nvSpPr>
          <p:spPr>
            <a:xfrm>
              <a:off x="6630120" y="5260680"/>
              <a:ext cx="26604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05520" y="4764240"/>
              <a:ext cx="923760" cy="59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0EF12-8AC7-4FF3-8C2D-93C42282C7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 Permutation under the cipher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468520" y="3651120"/>
            <a:ext cx="500544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46370-4113-4ACE-A816-CF52552570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03T01:56:35Z</dcterms:modified>
  <cp:revision>69</cp:revision>
  <dc:subject/>
  <dc:title>CAP Cryptographic Analysis Program</dc:title>
</cp:coreProperties>
</file>